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F34-99BC-4A11-ADA4-75B48D0D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C58-DFD1-44FC-83E9-56D7AEEF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584-3D4C-467D-83D0-120B3EC5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0BC-44E3-48CC-9B26-A593D0F0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F44-D581-42DC-82B9-4A0AD6D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AC2-B2C1-4443-8195-FCB58A9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E23-CE85-49CA-AFAF-F45D8EF1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CBC-0C41-43F7-919F-0AC89CA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925-FC72-4ED3-890E-1F7987B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ED4-D941-47E6-AC95-0C3EDF1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2EB-328C-4084-BF1F-3C8F503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E5F-BD5B-4AC4-B399-82040DF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9B2-76DB-416F-8B56-51CA1D6AB8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Land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Always Tougher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, Alexander Cox &amp; Anthony 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: Problems and Sol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d Climate: Very cold clim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s rivers to freeze and permafrost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ng Of Fire: a large ring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canoes on the Kamchatka  Penins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frost : a frost that form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inter months and st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ly till Summer preve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chitecture and m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e Brea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architecture (pili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ts3.mm.bing.net/images/thumbnail.aspx?q=333383410654&amp;id=29c8f3b948c2b7254918f2c4622045b1&amp;index=ch1"/>
          <p:cNvPicPr/>
          <p:nvPr/>
        </p:nvPicPr>
        <p:blipFill>
          <a:blip r:embed="rId1"/>
          <a:srcRect l="0" t="0" r="-1323" b="9800"/>
          <a:stretch/>
        </p:blipFill>
        <p:spPr>
          <a:xfrm>
            <a:off x="5791320" y="2286000"/>
            <a:ext cx="289548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forms Of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physical-n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ndforms: Mountains, Plateaus &amp; Pl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l Mountains: The mountain rage that is the border of Asia &amp; Europe. Elevation: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casus Mountains: The mountain rage separating Russia and South East Asia. Mt. Elbrus: 5642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 European Plains: The Large plain west of the Ural Mou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S910219680[1].wav" descr=""/>
          <p:cNvPicPr/>
          <p:nvPr/>
        </p:nvPicPr>
        <p:blipFill>
          <a:blip r:embed="rId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1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d Forms: Mountains, Plateaus &amp; Plains Continu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 Siberian Plain: The large plain just West of the Central Siberian Penins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Siberian Plateau: a huge plateau in the center of Rus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other mountain ranges in Russia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an Mts., Yablonovyy Range, Stanovoy Range, Verkhoyansk Range, &amp; Kolyma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Forms: Bodies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lyma River             Lake Baik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enisey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lga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n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rtysh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na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ur Ri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ral Riv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MS910220019[1].wav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30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56:42Z</dcterms:created>
  <dc:creator>Alex</dc:creator>
  <dc:description/>
  <dc:language>en-US</dc:language>
  <cp:lastModifiedBy>Alex</cp:lastModifiedBy>
  <dcterms:modified xsi:type="dcterms:W3CDTF">2010-12-16T00:14:49Z</dcterms:modified>
  <cp:revision>12</cp:revision>
  <dc:subject/>
  <dc:title>The Land is Always Tougher In Russia</dc:title>
</cp:coreProperties>
</file>